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8F8F-2379-4323-998A-2C8B7613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B69C-4EA4-42E9-9993-C72FB405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0E3C-928E-4E7A-91DC-0C156B47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70C8-6D2A-4A5B-8B47-1ED9E0E8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C64B-49FA-432E-9A62-EBB8978B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DDBC-E061-4B14-A206-124DC557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395D-9677-4F0E-AFD9-774F1DD9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4A25-B324-4B53-9942-83E8DAC0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17AC-8296-40B1-A25D-D38BFAD6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1324-8D88-4DC8-8F9B-C6F2B4E7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FC5B-47F0-4594-B18B-29C26148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4D6E-FD3C-44F9-BA42-058DF54A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FB17-2ED9-4CDC-B805-5D2AD006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BB9C-7D09-4E09-AE35-5D3B1132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5FCE-46A8-49F9-B4BC-72614374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23B3-11F4-4076-8039-E6430D39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6766-19CB-4585-BB91-60AD8690B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FAE58-C307-45EC-AF94-E1A21ED1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D1193-DB61-4B1B-BA58-B8943FFB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850CD-3655-46DB-8A33-765CB52A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07184-F13D-4324-860D-380A4077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E1BFB-F341-4B6A-BE9C-C50BF3ED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C946-1090-47A7-928B-40EE127F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565FF-4D81-4588-9520-83BA1562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000EE-8A36-42B8-AFA7-E6365A14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A91C8-86C4-4256-AFF5-54F6E5B4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99D27-4B24-41FF-8E92-5210B4BB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4DE69-0869-4177-BB08-69DD6120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79754-981B-4555-A570-ECDF10A1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09BEE-4836-476F-8614-65F508DC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560A6-B3A6-4017-BCD0-44A78B83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80CC1-78BA-4DA8-9CA0-D2FD6619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A20E5-AB53-40D9-8160-E8A1EADB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BC3E-9555-4778-9A3D-56114255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65540-8032-414F-9F25-EC5DF9A9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359DD-82D6-4B8C-9CE1-50366DD1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8E7D0-3698-45BC-9B5B-BC318C3A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BAA6F-BA97-43D8-B0AB-4E0B5C8D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B3DA3-4697-45DC-A6B2-799D60EB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96478-0AFD-479D-81C7-7302DB3A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9573E-665E-4245-A930-01320579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CA230-8318-4D45-85E2-5C3CFE0E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67F58-0334-4112-A3EB-8C68449ED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488C-8C4A-4478-A26C-8107A2C7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C476-B7C3-4E1B-A589-BF3E629D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FFA2-7755-4B1C-B7A5-1FA30F27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8C59-84B1-4F17-8568-097E9F6B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7243-E2B4-46EB-A0D4-4658E8B2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A63E-5611-43BF-A26F-3EBE5E529356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A682-B349-4BE3-8D82-09418A9CB143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46A3-67D4-4C10-A9C1-D274664011AF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DA1A-F43E-4421-B1B8-3ADC37285FC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ГРАЖДАНСКИЙ БЮДЖЕТ </a:t>
            </a:r>
            <a:br>
              <a:rPr sz="5400"/>
            </a:b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на 2019–2021 годы</a:t>
            </a:r>
            <a:br>
              <a:rPr sz="5400"/>
            </a:br>
            <a:r>
              <a:rPr b="1" lang="ru-RU" sz="3200" spc="-1" strike="noStrike">
                <a:solidFill>
                  <a:srgbClr val="0000cc"/>
                </a:solidFill>
                <a:latin typeface="Trebuchet MS"/>
              </a:rPr>
              <a:t>(</a:t>
            </a:r>
            <a:r>
              <a:rPr b="1" lang="ru-RU" sz="3600" spc="-1" strike="noStrike">
                <a:solidFill>
                  <a:srgbClr val="0000cc"/>
                </a:solidFill>
                <a:latin typeface="Trebuchet MS"/>
              </a:rPr>
              <a:t>уточненный на 15 ноября</a:t>
            </a:r>
            <a:r>
              <a:rPr b="1" lang="ru-RU" sz="3200" spc="-1" strike="noStrike">
                <a:solidFill>
                  <a:srgbClr val="0000cc"/>
                </a:solidFill>
                <a:latin typeface="Trebuchet MS"/>
              </a:rPr>
              <a:t>)</a:t>
            </a:r>
            <a:br>
              <a:rPr sz="3600"/>
            </a:b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Рисунок 6" descr="logoМЭРТ.gif"/>
          <p:cNvPicPr/>
          <p:nvPr/>
        </p:nvPicPr>
        <p:blipFill>
          <a:blip r:embed="rId1"/>
          <a:stretch/>
        </p:blipFill>
        <p:spPr>
          <a:xfrm>
            <a:off x="7315200" y="298440"/>
            <a:ext cx="160956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4191120" y="6605640"/>
            <a:ext cx="1828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2FCC-473B-429E-BD58-4999C557F093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48080" y="123840"/>
            <a:ext cx="531504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Расходы на реализацию мероприятий</a:t>
            </a:r>
            <a:br>
              <a:rPr sz="2200"/>
            </a:b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 в сфере здравоохранения</a:t>
            </a:r>
            <a:endParaRPr b="1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8600" y="1676520"/>
          <a:ext cx="8763120" cy="3886200"/>
        </p:xfrm>
        <a:graphic>
          <a:graphicData uri="http://schemas.openxmlformats.org/drawingml/2006/table">
            <a:tbl>
              <a:tblPr/>
              <a:tblGrid>
                <a:gridCol w="5114880"/>
                <a:gridCol w="1328760"/>
                <a:gridCol w="1187640"/>
                <a:gridCol w="1131840"/>
              </a:tblGrid>
              <a:tr h="264960">
                <a:tc gridSpan="4"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33cc"/>
                          </a:solidFill>
                          <a:latin typeface="Trebuchet MS"/>
                        </a:rPr>
                        <a:t>млн. тенг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 row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9 год  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гноз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тверж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сходы на здравоохранение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с аппаратом управл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8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7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5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рана здоровья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ециализированная медицинск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виды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 услуги в области здравоохра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7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9" name="Picture 76" descr=""/>
          <p:cNvPicPr/>
          <p:nvPr/>
        </p:nvPicPr>
        <p:blipFill>
          <a:blip r:embed="rId1"/>
          <a:stretch/>
        </p:blipFill>
        <p:spPr>
          <a:xfrm>
            <a:off x="0" y="0"/>
            <a:ext cx="1530360" cy="1371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7" descr=""/>
          <p:cNvPicPr/>
          <p:nvPr/>
        </p:nvPicPr>
        <p:blipFill>
          <a:blip r:embed="rId2"/>
          <a:stretch/>
        </p:blipFill>
        <p:spPr>
          <a:xfrm>
            <a:off x="1914480" y="28440"/>
            <a:ext cx="1523880" cy="13431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6"/>
          <p:cNvSpPr/>
          <p:nvPr/>
        </p:nvSpPr>
        <p:spPr>
          <a:xfrm>
            <a:off x="762120" y="6324480"/>
            <a:ext cx="7696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9080" y="838080"/>
          <a:ext cx="8839080" cy="5208840"/>
        </p:xfrm>
        <a:graphic>
          <a:graphicData uri="http://schemas.openxmlformats.org/drawingml/2006/table">
            <a:tbl>
              <a:tblPr/>
              <a:tblGrid>
                <a:gridCol w="561960"/>
                <a:gridCol w="561960"/>
                <a:gridCol w="3479760"/>
                <a:gridCol w="1505160"/>
                <a:gridCol w="1365120"/>
                <a:gridCol w="1365120"/>
              </a:tblGrid>
              <a:tr h="15732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здравоохранения обла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813 93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171 4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555 96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реализации государственной политики на местном уровне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674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15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95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6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охране материнства и дет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18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77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5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аганда здорового образа жи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профилактике и борьбе со СПИД в Республике Казах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38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спечение граждан бесплатным или льготным проездом за пределы населенного пункта на ле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7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1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формационно-аналитические услуги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1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9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0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ентрализованный закуп и хранение вакцин и других медицинских иммунобиологических препаратов для проведения иммунопрофилактики нас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517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37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759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ластные базы спецмедснабж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06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2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11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е расходы медицинских организаций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7368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полнительное обеспечение гарантированного объема бесплатной медицинской помощи по решению местных представительных органов обла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240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455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664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ведение медицинской организацией мероприятий, снижающих половое влечение, осуществляемые на основании решения с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в организациях технического и профессионального, послесредне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77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876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541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Заголовок 2" descr=""/>
          <p:cNvPicPr/>
          <p:nvPr/>
        </p:nvPicPr>
        <p:blipFill>
          <a:blip r:embed="rId1"/>
          <a:stretch/>
        </p:blipFill>
        <p:spPr>
          <a:xfrm>
            <a:off x="384120" y="158760"/>
            <a:ext cx="8326440" cy="8650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76320" y="838080"/>
          <a:ext cx="8781840" cy="2659320"/>
        </p:xfrm>
        <a:graphic>
          <a:graphicData uri="http://schemas.openxmlformats.org/drawingml/2006/table">
            <a:tbl>
              <a:tblPr/>
              <a:tblGrid>
                <a:gridCol w="504720"/>
                <a:gridCol w="561960"/>
                <a:gridCol w="3479760"/>
                <a:gridCol w="1505160"/>
                <a:gridCol w="1365120"/>
                <a:gridCol w="1365120"/>
              </a:tblGrid>
              <a:tr h="228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19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вышение квалификации и переподготовка кад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8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6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с высшим, послевузовским образованием и оказание социальной поддержки обучающим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63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25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94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социальной и инженерной инфраструктуре в сельских населенных пунктах в рамках проекта «Ауыл-Ел бесігі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48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полнение государственных обязательств по проектам государственно-частного партнер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05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022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31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384120" y="195120"/>
            <a:ext cx="8229600" cy="64620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Таблица 3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6868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фия Ф. Садыкова</dc:creator>
  <dc:description/>
  <dc:language>en-US</dc:language>
  <cp:lastModifiedBy>Kapkenova</cp:lastModifiedBy>
  <cp:lastPrinted>2019-11-15T04:29:59Z</cp:lastPrinted>
  <dcterms:modified xsi:type="dcterms:W3CDTF">2019-11-15T05:52:32Z</dcterms:modified>
  <cp:revision>7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